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6C7-707A-4683-A77B-7983E227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22A-6807-4353-BD42-1917D1E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7F0-BE17-4D5D-9C57-49C4A01D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305-08AE-4091-ABD8-BD67FC27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EB4-DCDC-49D4-804B-226554B1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90B-1700-4AB3-9BC5-B293AD4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BC4-BD32-43C1-A8E4-6C86D5A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2E7-140D-4F00-971F-2036FA02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A51-97F5-48E5-B52F-48368CD9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C0B-38B2-4C00-9C17-9DE0F92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417-923B-4F38-A6CE-4816501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6D1-EF03-4DAF-BA65-F4D0591B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38A8-05AD-45F1-9C16-CAC4EAC5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mpu-internet" descr=""/>
          <p:cNvPicPr/>
          <p:nvPr/>
        </p:nvPicPr>
        <p:blipFill>
          <a:blip r:embed="rId2"/>
          <a:stretch/>
        </p:blipFill>
        <p:spPr>
          <a:xfrm>
            <a:off x="0" y="2840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10800000">
            <a:off x="0" y="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%20uni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1600200" cy="156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4680" y="579132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r. Manuel A. Sepúlveda Stua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irección de Educación 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1800" y="2743200"/>
            <a:ext cx="770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s Redes Universitarias Internacion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ara el Fortalecimiento de los Program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Postgrado y el Diálogo Dientífic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Experiencia de la  Universidad Autónoma de Nuevo Leó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ed" descr=""/>
          <p:cNvPicPr/>
          <p:nvPr/>
        </p:nvPicPr>
        <p:blipFill>
          <a:blip r:embed="rId2"/>
          <a:stretch/>
        </p:blipFill>
        <p:spPr>
          <a:xfrm>
            <a:off x="7696080" y="5129280"/>
            <a:ext cx="12956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mpu-internet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0" y="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52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0480" y="76212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cenario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440" y="19810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24960" y="195408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20960" y="4556160"/>
            <a:ext cx="269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sarrollo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ient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42120" y="4632480"/>
            <a:ext cx="169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514600"/>
            <a:ext cx="4648320" cy="1828800"/>
          </a:xfrm>
          <a:prstGeom prst="ellipse">
            <a:avLst/>
          </a:prstGeom>
          <a:solidFill>
            <a:srgbClr val="33ccff">
              <a:alpha val="50000"/>
            </a:srgbClr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8640" y="3017880"/>
            <a:ext cx="43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lobalizac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114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38280" y="39625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437920" y="24379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477120" y="2362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mpu-internet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0800000">
            <a:off x="0" y="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9360" y="2394000"/>
            <a:ext cx="746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unicación del Conocimiento a través de los Med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centrac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istribución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117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mpu-internet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638680" y="2286000"/>
            <a:ext cx="2286000" cy="22860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0" y="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3200400"/>
            <a:ext cx="175248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581280"/>
            <a:ext cx="1752480" cy="0"/>
          </a:xfrm>
          <a:prstGeom prst="line">
            <a:avLst/>
          </a:prstGeom>
          <a:ln w="57240">
            <a:solidFill>
              <a:srgbClr val="003366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173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095520" y="2514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undo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2286000"/>
            <a:ext cx="2286000" cy="22860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20040" y="2895480"/>
            <a:ext cx="21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u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sarrol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379560" y="3429000"/>
            <a:ext cx="879840" cy="990360"/>
            <a:chOff x="6379560" y="3429000"/>
            <a:chExt cx="879840" cy="990360"/>
          </a:xfrm>
        </p:grpSpPr>
        <p:sp>
          <p:nvSpPr>
            <p:cNvPr id="226" name=""/>
            <p:cNvSpPr/>
            <p:nvPr/>
          </p:nvSpPr>
          <p:spPr>
            <a:xfrm>
              <a:off x="6857640" y="3429000"/>
              <a:ext cx="0" cy="990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379560" y="3657960"/>
              <a:ext cx="879840" cy="454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mpu-internet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10800000">
            <a:off x="0" y="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040" y="3138480"/>
            <a:ext cx="26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505320" y="2153880"/>
            <a:ext cx="2286000" cy="2418120"/>
            <a:chOff x="3505320" y="2153880"/>
            <a:chExt cx="2286000" cy="2418120"/>
          </a:xfrm>
        </p:grpSpPr>
        <p:sp>
          <p:nvSpPr>
            <p:cNvPr id="233" name=""/>
            <p:cNvSpPr/>
            <p:nvPr/>
          </p:nvSpPr>
          <p:spPr>
            <a:xfrm flipV="1">
              <a:off x="3505320" y="2153880"/>
              <a:ext cx="2209680" cy="1274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3429000"/>
              <a:ext cx="2286000" cy="1143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236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20280" y="1641600"/>
            <a:ext cx="28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unicación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vestig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09320" y="419112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unicación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adémicos y Doc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288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" name="compu-internet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0800000">
            <a:off x="0" y="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1040" y="3138480"/>
            <a:ext cx="26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505320" y="2153880"/>
            <a:ext cx="2286000" cy="2418120"/>
            <a:chOff x="3505320" y="2153880"/>
            <a:chExt cx="2286000" cy="2418120"/>
          </a:xfrm>
        </p:grpSpPr>
        <p:sp>
          <p:nvSpPr>
            <p:cNvPr id="342" name=""/>
            <p:cNvSpPr/>
            <p:nvPr/>
          </p:nvSpPr>
          <p:spPr>
            <a:xfrm flipV="1">
              <a:off x="3505320" y="2153880"/>
              <a:ext cx="2209680" cy="1274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05320" y="3429000"/>
              <a:ext cx="2286000" cy="1143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345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791680" y="179388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umnos de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9440" y="43434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umnos de Post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46200" y="2895480"/>
            <a:ext cx="826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3399"/>
                </a:solidFill>
                <a:latin typeface="Times New Roman"/>
              </a:rPr>
              <a:t>Consorcio de Universidades para 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3399"/>
                </a:solidFill>
                <a:latin typeface="Times New Roman"/>
              </a:rPr>
              <a:t>Intercambio Académico, Tecnológico y Cultu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0" y="533520"/>
            <a:ext cx="685800" cy="5790960"/>
            <a:chOff x="0" y="533520"/>
            <a:chExt cx="685800" cy="5790960"/>
          </a:xfrm>
        </p:grpSpPr>
        <p:sp>
          <p:nvSpPr>
            <p:cNvPr id="398" name=""/>
            <p:cNvSpPr/>
            <p:nvPr/>
          </p:nvSpPr>
          <p:spPr>
            <a:xfrm>
              <a:off x="0" y="533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65412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77472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8953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01592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113652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1257480"/>
              <a:ext cx="6858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37808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1498680"/>
              <a:ext cx="6858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16192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17398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186048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19810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210168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22226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234324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246384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25909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270504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282564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294624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3067200"/>
              <a:ext cx="68580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18780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3308400"/>
              <a:ext cx="685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342900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354960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670200"/>
              <a:ext cx="685800" cy="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379080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911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4032360"/>
              <a:ext cx="6858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415296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4273560"/>
              <a:ext cx="685800" cy="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39416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51476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4635360"/>
              <a:ext cx="6858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4756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487692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499752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511812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5238720"/>
              <a:ext cx="685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535932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547992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5600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5721480"/>
              <a:ext cx="685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842080"/>
              <a:ext cx="68580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5962680"/>
              <a:ext cx="68580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6083280"/>
              <a:ext cx="6858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6203880"/>
              <a:ext cx="6858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6324480"/>
              <a:ext cx="685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7:39:45Z</dcterms:created>
  <dc:creator>UANL </dc:creator>
  <dc:description/>
  <dc:language>en-US</dc:language>
  <cp:lastModifiedBy>Dirección de Educación a Distancia</cp:lastModifiedBy>
  <dcterms:modified xsi:type="dcterms:W3CDTF">2003-04-01T21:35:01Z</dcterms:modified>
  <cp:revision>15</cp:revision>
  <dc:subject/>
  <dc:title>Presentación de PowerPoint</dc:title>
</cp:coreProperties>
</file>